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../../IllustrPres/&#1055;&#1088;&#1080;&#1083;&#1086;&#1078;&#1052;&#1084;&#1043;&#1088;/&#1084;&#1080;&#1089;&#1089;&#1080;&#1103;&#1053;2-&#1076;&#1080;&#1089;&#1090;&#1052;&#1052;.avi" TargetMode="External"/><Relationship Id="rId2" Type="http://schemas.openxmlformats.org/officeDocument/2006/relationships/hyperlink" Target="file:///../../../IllustrPres/&#1055;&#1088;&#1080;&#1083;&#1086;&#1078;&#1052;&#1084;&#1043;&#1088;/AD1200.AVI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Основные понятия мультимеди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35FD-CB0C-4309-B7B3-A07703DBC3A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9080" y="1449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120aa"/>
                </a:solidFill>
                <a:latin typeface="Arial"/>
              </a:rPr>
              <a:t>Занятие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История, носители и средства информации. Виртуальная реальность и навигационное пространство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60DF-36BB-4476-9938-2D2FF962BE6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35640" y="159228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Первый в мире виртуальный шлем Ивана Сазерленда"/>
          <p:cNvPicPr/>
          <p:nvPr/>
        </p:nvPicPr>
        <p:blipFill>
          <a:blip r:embed="rId1"/>
          <a:stretch/>
        </p:blipFill>
        <p:spPr>
          <a:xfrm>
            <a:off x="324000" y="2492280"/>
            <a:ext cx="4032000" cy="2579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88000" y="1773360"/>
            <a:ext cx="40320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дна из первых моделей стереооч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FFB7-4B3F-4476-98C7-8DB4C669DE0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4308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113-1-s" descr="Виртуальная перчатка"/>
          <p:cNvPicPr/>
          <p:nvPr/>
        </p:nvPicPr>
        <p:blipFill>
          <a:blip r:embed="rId1"/>
          <a:stretch/>
        </p:blipFill>
        <p:spPr>
          <a:xfrm>
            <a:off x="250920" y="1843200"/>
            <a:ext cx="4141800" cy="2954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392720" y="112536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туальная перчатка, к примеру, приобрела довольно большую популярность. На каждом ее пальце закреплены отдельные сенсоры или маркеры, а также имеется одно общее электромагнитное или ультразвуковое устройство для трекин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71A8-ABE8-4284-AEF5-5EA9053F1D3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35640" y="1341360"/>
            <a:ext cx="0" cy="5291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33128" descr=""/>
          <p:cNvPicPr/>
          <p:nvPr/>
        </p:nvPicPr>
        <p:blipFill>
          <a:blip r:embed="rId1"/>
          <a:stretch/>
        </p:blipFill>
        <p:spPr>
          <a:xfrm>
            <a:off x="216000" y="1557360"/>
            <a:ext cx="4176720" cy="203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000160" y="518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1" descr=""/>
          <p:cNvPicPr/>
          <p:nvPr/>
        </p:nvPicPr>
        <p:blipFill>
          <a:blip r:embed="rId2"/>
          <a:stretch/>
        </p:blipFill>
        <p:spPr>
          <a:xfrm>
            <a:off x="250920" y="3936960"/>
            <a:ext cx="1971720" cy="1724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86000" y="49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33126" descr=""/>
          <p:cNvPicPr/>
          <p:nvPr/>
        </p:nvPicPr>
        <p:blipFill>
          <a:blip r:embed="rId3"/>
          <a:stretch/>
        </p:blipFill>
        <p:spPr>
          <a:xfrm>
            <a:off x="2340000" y="3938760"/>
            <a:ext cx="2087640" cy="1725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53080" y="1378080"/>
            <a:ext cx="4032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хема «4+1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вид акустики по Logitech-овски презентабелен и аккурат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28D3-77CC-4399-8E6B-377B8204B06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512640"/>
            <a:ext cx="4068720" cy="2641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Виртуальная операционная в действии"/>
          <p:cNvPicPr/>
          <p:nvPr/>
        </p:nvPicPr>
        <p:blipFill>
          <a:blip r:embed="rId2"/>
          <a:stretch/>
        </p:blipFill>
        <p:spPr>
          <a:xfrm>
            <a:off x="216000" y="3465360"/>
            <a:ext cx="4068720" cy="2745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27640" y="29700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ее всеобъемлющая система интерактивной ВР — иммерсионная (англ. immerse — погружаться). Она обеспечивает как частичное, так и полное погружение пользователя в виртуальную сре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386064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енная и смешанная реальность (augmented and mixed reality), т.е. реальность, дополненная виртуальной составляющ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активные вирт. персонажи, диско жок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ртуальная образовательная среда: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экранная проекция виртуальных ми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тПерсДиско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irtEnvNFabSnd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Б24ВиртМКругП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Технологии виртуальной реальност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55ED-096D-430F-9952-89F532BB57A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медиа в обучающем курсе 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льное шоу, мультиэкр. про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поративная вечеринка, круговая пано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ntrXVsnd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ВиртШоуКупол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алКруг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20aa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ласти применения мультимедийных приложе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F3FC-048C-4EE8-9FA6-A17B19F343F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активная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льное шоу, мультиэкр. про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медиа технологии в разве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знес видеопрезентация программ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тМирРекл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ВиртШоуКупол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ПриложМмГр\миссияН2-дистММ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ПриложМмГр\AD1200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20aa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ласти применения мультимедийных приложе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B2ED-6869-4469-B92D-07B883451D3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ьютерное искус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эффекты в кино: останови пули, матр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ьм целиком сгенерированный на компьютере: шрэ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работе с программами, CorelDraw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CompAr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matrixfrm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shrek1frm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CorelDraw Int-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20aa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ласти применения мультимедийных приложе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81F1-A755-4E86-9334-9B95D77A0E1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0:33:59Z</dcterms:modified>
  <cp:revision>96</cp:revision>
  <dc:subject/>
  <dc:title>Lecture Template </dc:title>
</cp:coreProperties>
</file>